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9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4.jpeg" ContentType="image/jpeg"/>
  <Override PartName="/ppt/media/image2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4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DE70-66E3-4FE3-B045-B6267774BF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. 7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DF0B-F439-4014-9899-0A193B0A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1CB-781D-401F-BFA4-8E36E82A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9F81-B8C6-4051-9EB3-59E91DC0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F0B8-F029-49C0-991B-825F1725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712-648F-410D-AE90-7270DD1B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B73-BFEF-478C-B92A-C8A6F25C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501-3B6D-4B30-B3BB-1B58C5EC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F78-CB3A-4BAC-8DB7-9C7A2EF2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B8B-7F7C-47C0-95CE-D6845E9E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159F-4518-4529-AEE2-B9490F0B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760C-30F0-4C2C-99FC-4A93C03E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EE3-B93A-4C51-9A8F-CBF76B66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31C7-981A-40C0-B8C7-4EA14CE294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hyperlink" Target="http://www.stolaf.edu/people/giannini/flashanimat/transport/diffusion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stolaf.edu/people/giannini/flashanimat/transport/channel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http://www.stolaf.edu/people/giannini/flashanimat/transport/osm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olaf.edu/people/giannini/flashanimat/transport/secondary%20active%20transport.swf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stolaf.edu/people/giannini/flashanimat/cellstructures/phagocit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http://www.stolaf.edu/people/giannini/flashanimat/lipids/membrane%20fluidity.sw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wisc-online.com/objects/index_tj.asp?objid=AP1101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rograms.northlandcollege.edu/biology/Biology1111/animations/transport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ellular Transport Not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h. 7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6" descr="membr1"/>
          <p:cNvPicPr/>
          <p:nvPr/>
        </p:nvPicPr>
        <p:blipFill>
          <a:blip r:embed="rId1"/>
          <a:stretch/>
        </p:blipFill>
        <p:spPr>
          <a:xfrm>
            <a:off x="380880" y="2895480"/>
            <a:ext cx="8458200" cy="348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xocytosis 2"/>
          <p:cNvPicPr/>
          <p:nvPr/>
        </p:nvPicPr>
        <p:blipFill>
          <a:blip r:embed="rId2"/>
          <a:stretch/>
        </p:blipFill>
        <p:spPr>
          <a:xfrm>
            <a:off x="6553080" y="3049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7276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: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1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Diffus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1308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ement of particles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high concentration to an area of low 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d03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dfd03"/>
                </a:solidFill>
                <a:latin typeface="Arial"/>
              </a:rPr>
              <a:t>High to Low</a:t>
            </a:r>
            <a:r>
              <a:rPr b="1" lang="en-US" sz="3600" spc="-1" strike="noStrike">
                <a:solidFill>
                  <a:srgbClr val="fdfd0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reached)-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es will still move around but stay sprea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diffusion-animated"/>
          <p:cNvPicPr/>
          <p:nvPr/>
        </p:nvPicPr>
        <p:blipFill>
          <a:blip r:embed="rId1"/>
          <a:stretch/>
        </p:blipFill>
        <p:spPr>
          <a:xfrm>
            <a:off x="67057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diffan"/>
          <p:cNvPicPr/>
          <p:nvPr/>
        </p:nvPicPr>
        <p:blipFill>
          <a:blip r:embed="rId2"/>
          <a:stretch/>
        </p:blipFill>
        <p:spPr>
          <a:xfrm>
            <a:off x="6858000" y="3505320"/>
            <a:ext cx="1908000" cy="3114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6400800" y="6523200"/>
            <a:ext cx="2743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6324480" y="15228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Simple Diffusion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4952880" cy="4665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Facilitated diffu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iffusion of specific particles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through transport prote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nd in the membr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Proteins are </a:t>
            </a: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y “select” only certain molecules  to cross th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diffuse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1981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5181480" y="3352680"/>
            <a:ext cx="198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Channel Prote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634160" y="342900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Lipid Bilay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Facilitated Diff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1" descr="facil-diffusion"/>
          <p:cNvPicPr/>
          <p:nvPr/>
        </p:nvPicPr>
        <p:blipFill>
          <a:blip r:embed="rId2"/>
          <a:stretch/>
        </p:blipFill>
        <p:spPr>
          <a:xfrm>
            <a:off x="5257800" y="4952880"/>
            <a:ext cx="1924200" cy="1562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2"/>
          <p:cNvSpPr/>
          <p:nvPr/>
        </p:nvSpPr>
        <p:spPr>
          <a:xfrm>
            <a:off x="5181480" y="6477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Carrier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43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8229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438280" y="6705720"/>
            <a:ext cx="2438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6"/>
          <p:cNvGrpSpPr/>
          <p:nvPr/>
        </p:nvGrpSpPr>
        <p:grpSpPr>
          <a:xfrm>
            <a:off x="3784680" y="1670040"/>
            <a:ext cx="2816280" cy="3747960"/>
            <a:chOff x="3784680" y="1670040"/>
            <a:chExt cx="2816280" cy="3747960"/>
          </a:xfrm>
        </p:grpSpPr>
        <p:pic>
          <p:nvPicPr>
            <p:cNvPr id="176" name="Picture 2" descr=""/>
            <p:cNvPicPr/>
            <p:nvPr/>
          </p:nvPicPr>
          <p:blipFill>
            <a:blip r:embed="rId1"/>
            <a:stretch/>
          </p:blipFill>
          <p:spPr>
            <a:xfrm>
              <a:off x="3784680" y="1670040"/>
              <a:ext cx="281628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15"/>
            <p:cNvSpPr/>
            <p:nvPr/>
          </p:nvSpPr>
          <p:spPr>
            <a:xfrm>
              <a:off x="5486400" y="3581280"/>
              <a:ext cx="83808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Text Box 3"/>
          <p:cNvSpPr/>
          <p:nvPr/>
        </p:nvSpPr>
        <p:spPr>
          <a:xfrm>
            <a:off x="993600" y="198108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90720" y="4572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L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994320" y="3276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486400" y="10288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5889240" y="4554360"/>
            <a:ext cx="805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assive Transport:  </a:t>
            </a:r>
            <a:r>
              <a:rPr b="0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2. Facilitated Dif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819520" y="54864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ransport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 flipV="1">
            <a:off x="3962520" y="3885840"/>
            <a:ext cx="1066680" cy="1676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1676520" y="2590920"/>
            <a:ext cx="0" cy="1981080"/>
          </a:xfrm>
          <a:prstGeom prst="line">
            <a:avLst/>
          </a:prstGeom>
          <a:ln w="3816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11430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Cellular Transport From 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3809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638680" y="4648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6629400" y="23623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Channel Protei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487692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diffusion of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osmosis"/>
          <p:cNvPicPr/>
          <p:nvPr/>
        </p:nvPicPr>
        <p:blipFill>
          <a:blip r:embed="rId1"/>
          <a:stretch/>
        </p:blipFill>
        <p:spPr>
          <a:xfrm>
            <a:off x="5181480" y="1371600"/>
            <a:ext cx="3775320" cy="2808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5410080" y="4495680"/>
            <a:ext cx="336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705720" y="380880"/>
            <a:ext cx="213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Osm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ssive Transport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</a:t>
            </a: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Osm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1460520"/>
            <a:ext cx="91440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Low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Hig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ree Typ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28600" y="1676520"/>
            <a:ext cx="4114800" cy="3867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Protein Pum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transport proteins that require energy to d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/ Potassium Pumps are important in nerve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7086600" y="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Sodium Potassium Pump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tive Transport using prote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8" descr="antiport"/>
          <p:cNvPicPr/>
          <p:nvPr/>
        </p:nvPicPr>
        <p:blipFill>
          <a:blip r:embed="rId2"/>
          <a:stretch/>
        </p:blipFill>
        <p:spPr>
          <a:xfrm>
            <a:off x="4724280" y="1676520"/>
            <a:ext cx="4267440" cy="2898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5257800" y="4724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0" y="11430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2485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068800" cy="513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ndocyto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aking bulky material into a c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ell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endocytosis"/>
          <p:cNvPicPr/>
          <p:nvPr/>
        </p:nvPicPr>
        <p:blipFill>
          <a:blip r:embed="rId1"/>
          <a:stretch/>
        </p:blipFill>
        <p:spPr>
          <a:xfrm>
            <a:off x="5257800" y="2819520"/>
            <a:ext cx="3738600" cy="121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~AUT0028"/>
          <p:cNvPicPr/>
          <p:nvPr/>
        </p:nvPicPr>
        <p:blipFill>
          <a:blip r:embed="rId2"/>
          <a:stretch/>
        </p:blipFill>
        <p:spPr>
          <a:xfrm>
            <a:off x="6095880" y="152280"/>
            <a:ext cx="2176560" cy="25480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8"/>
          <p:cNvGrpSpPr/>
          <p:nvPr/>
        </p:nvGrpSpPr>
        <p:grpSpPr>
          <a:xfrm>
            <a:off x="5181480" y="4191120"/>
            <a:ext cx="3733560" cy="2361960"/>
            <a:chOff x="5181480" y="4191120"/>
            <a:chExt cx="3733560" cy="2361960"/>
          </a:xfrm>
        </p:grpSpPr>
        <p:pic>
          <p:nvPicPr>
            <p:cNvPr id="216" name="Picture 9" descr="phago"/>
            <p:cNvPicPr/>
            <p:nvPr/>
          </p:nvPicPr>
          <p:blipFill>
            <a:blip r:embed="rId3"/>
            <a:srcRect l="16278" t="1837" r="0" b="20204"/>
            <a:stretch/>
          </p:blipFill>
          <p:spPr>
            <a:xfrm>
              <a:off x="5195880" y="4191120"/>
              <a:ext cx="371916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10"/>
            <p:cNvSpPr/>
            <p:nvPr/>
          </p:nvSpPr>
          <p:spPr>
            <a:xfrm>
              <a:off x="5181480" y="5518800"/>
              <a:ext cx="51480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1509840"/>
            <a:ext cx="5486400" cy="534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ces material out of 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exocytosis 2"/>
          <p:cNvPicPr/>
          <p:nvPr/>
        </p:nvPicPr>
        <p:blipFill>
          <a:blip r:embed="rId1"/>
          <a:stretch/>
        </p:blipFill>
        <p:spPr>
          <a:xfrm>
            <a:off x="6095880" y="281952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400800" y="1523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Endocytosis &amp; Exocytos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ffects of Osmosis on Life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iffusion of water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28" name="Picture 4" descr="hypotonic"/>
          <p:cNvPicPr/>
          <p:nvPr/>
        </p:nvPicPr>
        <p:blipFill>
          <a:blip r:embed="rId1"/>
          <a:stretch/>
        </p:blipFill>
        <p:spPr>
          <a:xfrm>
            <a:off x="255600" y="2635200"/>
            <a:ext cx="2743200" cy="23209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The solution has a lower concentration of solutes and a higher concentration of water than inside the cell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Low solute; High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the solution to inside the cell): Cell Swells and bursts ope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yt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7" descr="rbc"/>
          <p:cNvPicPr/>
          <p:nvPr/>
        </p:nvPicPr>
        <p:blipFill>
          <a:blip r:embed="rId2"/>
          <a:stretch/>
        </p:blipFill>
        <p:spPr>
          <a:xfrm>
            <a:off x="3176640" y="28144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RBC in hypotonic"/>
          <p:cNvPicPr/>
          <p:nvPr/>
        </p:nvPicPr>
        <p:blipFill>
          <a:blip r:embed="rId3"/>
          <a:stretch/>
        </p:blipFill>
        <p:spPr>
          <a:xfrm>
            <a:off x="6170760" y="2840040"/>
            <a:ext cx="2660400" cy="17733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9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8580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bout Cell Membran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41008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real cell membrane"/>
          <p:cNvPicPr/>
          <p:nvPr/>
        </p:nvPicPr>
        <p:blipFill>
          <a:blip r:embed="rId1"/>
          <a:stretch/>
        </p:blipFill>
        <p:spPr>
          <a:xfrm>
            <a:off x="5770440" y="1905120"/>
            <a:ext cx="3373560" cy="2857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054840" y="522936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er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solution has a higher concentration of solutes and a lower concentration of water than inside the cell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High solute; Low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inside the cell  into the solution:   Cell shrink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Plasm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6" descr="hypertonic"/>
          <p:cNvPicPr/>
          <p:nvPr/>
        </p:nvPicPr>
        <p:blipFill>
          <a:blip r:embed="rId1"/>
          <a:stretch/>
        </p:blipFill>
        <p:spPr>
          <a:xfrm>
            <a:off x="0" y="2514600"/>
            <a:ext cx="3429000" cy="2900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RBC in hypertonic"/>
          <p:cNvPicPr/>
          <p:nvPr/>
        </p:nvPicPr>
        <p:blipFill>
          <a:blip r:embed="rId2"/>
          <a:srcRect l="31200" t="19800" r="0" b="0"/>
          <a:stretch/>
        </p:blipFill>
        <p:spPr>
          <a:xfrm>
            <a:off x="7300800" y="3124080"/>
            <a:ext cx="1843200" cy="14302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H="1" flipV="1">
            <a:off x="7924320" y="4190760"/>
            <a:ext cx="30492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" descr="turgor"/>
          <p:cNvPicPr/>
          <p:nvPr/>
        </p:nvPicPr>
        <p:blipFill>
          <a:blip r:embed="rId3"/>
          <a:stretch/>
        </p:blipFill>
        <p:spPr>
          <a:xfrm>
            <a:off x="3505320" y="2514600"/>
            <a:ext cx="3733560" cy="2911320"/>
          </a:xfrm>
          <a:prstGeom prst="rect">
            <a:avLst/>
          </a:prstGeom>
          <a:ln w="0">
            <a:noFill/>
          </a:ln>
        </p:spPr>
      </p:pic>
      <p:sp>
        <p:nvSpPr>
          <p:cNvPr id="243" name="Line 11"/>
          <p:cNvSpPr/>
          <p:nvPr/>
        </p:nvSpPr>
        <p:spPr>
          <a:xfrm flipH="1" flipV="1">
            <a:off x="6705720" y="4572000"/>
            <a:ext cx="91440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77724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4876920" y="3505320"/>
            <a:ext cx="99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1181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66680" y="992160"/>
            <a:ext cx="8766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oncentration of solutes in the solution is equal to the concentration of solutes inside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89000" y="527544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Water moves equally in both directions and the cell remains same size!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Dynamic Equilibr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6" descr="isotonic"/>
          <p:cNvPicPr/>
          <p:nvPr/>
        </p:nvPicPr>
        <p:blipFill>
          <a:blip r:embed="rId1"/>
          <a:stretch/>
        </p:blipFill>
        <p:spPr>
          <a:xfrm>
            <a:off x="511200" y="2401920"/>
            <a:ext cx="2857320" cy="2320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red blood cell iin isotonic solution"/>
          <p:cNvPicPr/>
          <p:nvPr/>
        </p:nvPicPr>
        <p:blipFill>
          <a:blip r:embed="rId2"/>
          <a:stretch/>
        </p:blipFill>
        <p:spPr>
          <a:xfrm>
            <a:off x="6510240" y="2320920"/>
            <a:ext cx="1974960" cy="24415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5"/>
          <p:cNvPicPr/>
          <p:nvPr/>
        </p:nvPicPr>
        <p:blipFill>
          <a:blip r:embed="rId1"/>
          <a:srcRect l="9600" t="12600" r="9600" b="3600"/>
          <a:stretch/>
        </p:blipFill>
        <p:spPr>
          <a:xfrm>
            <a:off x="762120" y="762120"/>
            <a:ext cx="7086600" cy="49021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68580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 of solution are these cells 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2895480" y="2819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6629400" y="2743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47242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22860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44197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61722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Organisms Deal with Osmotic Pressu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81320" y="152280"/>
            <a:ext cx="2210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828800" y="29718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0" y="129528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acteria and pl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ve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ell wa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prevent them from over-expanding. In plants the pressure exerted on the cell wall is called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ugor pressure.</a:t>
            </a:r>
            <a:r>
              <a:rPr b="0" lang="en-US" sz="1800" spc="-1" strike="noStrike">
                <a:solidFill>
                  <a:srgbClr val="fff59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prot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paramecium ha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ontractile vacuo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collect water flowing in and pump it out to prevent them from over-expa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alt water f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mp salt out of their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pecialized gi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ey do not dehyd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bathed i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lood. Kidne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ep the blood isotonic by remove excess salt a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556272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298800" indent="-29880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597"/>
                </a:solidFill>
                <a:latin typeface="Arial"/>
              </a:rPr>
              <a:t>Lipid Bilay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2 layers of phospholi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 head i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po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ater lov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ty acid tail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non-polar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ter fea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Picture 5" descr="phospholipid"/>
          <p:cNvPicPr/>
          <p:nvPr/>
        </p:nvPicPr>
        <p:blipFill>
          <a:blip r:embed="rId1"/>
          <a:stretch/>
        </p:blipFill>
        <p:spPr>
          <a:xfrm>
            <a:off x="6248520" y="838080"/>
            <a:ext cx="17222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3227400" cy="1484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09588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09588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0" descr="3"/>
          <p:cNvPicPr/>
          <p:nvPr/>
        </p:nvPicPr>
        <p:blipFill>
          <a:blip r:embed="rId3"/>
          <a:srcRect l="19200" t="0" r="60004" b="0"/>
          <a:stretch/>
        </p:blipFill>
        <p:spPr>
          <a:xfrm>
            <a:off x="8153280" y="685800"/>
            <a:ext cx="736560" cy="2362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1219320" y="3738600"/>
            <a:ext cx="6781680" cy="2967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144792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52280" y="304920"/>
            <a:ext cx="5867280" cy="3308400"/>
            <a:chOff x="152280" y="304920"/>
            <a:chExt cx="5867280" cy="3308400"/>
          </a:xfrm>
        </p:grpSpPr>
        <p:pic>
          <p:nvPicPr>
            <p:cNvPr id="69" name="Picture 5" descr="3"/>
            <p:cNvPicPr/>
            <p:nvPr/>
          </p:nvPicPr>
          <p:blipFill>
            <a:blip r:embed="rId2"/>
            <a:srcRect l="1200" t="21600" r="51604" b="21600"/>
            <a:stretch/>
          </p:blipFill>
          <p:spPr>
            <a:xfrm>
              <a:off x="152280" y="304920"/>
              <a:ext cx="3825000" cy="33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9" descr="3"/>
            <p:cNvPicPr/>
            <p:nvPr/>
          </p:nvPicPr>
          <p:blipFill>
            <a:blip r:embed="rId3"/>
            <a:srcRect l="72004" t="21600" r="0" b="21600"/>
            <a:stretch/>
          </p:blipFill>
          <p:spPr>
            <a:xfrm>
              <a:off x="3750840" y="304920"/>
              <a:ext cx="2268720" cy="33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Rectangle 11"/>
          <p:cNvSpPr/>
          <p:nvPr/>
        </p:nvSpPr>
        <p:spPr>
          <a:xfrm>
            <a:off x="6477120" y="2209680"/>
            <a:ext cx="2133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Membrane movement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H="1">
            <a:off x="3276360" y="914400"/>
            <a:ext cx="609480" cy="5335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886200" y="30492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ar head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love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disso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 flipV="1">
            <a:off x="3428640" y="2209320"/>
            <a:ext cx="609480" cy="3812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4038480" y="228600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polar tail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hide from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 flipV="1">
            <a:off x="1676520" y="5562720"/>
            <a:ext cx="7596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 flipV="1">
            <a:off x="2895480" y="5562360"/>
            <a:ext cx="304920" cy="6858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 flipH="1">
            <a:off x="2590920" y="4114800"/>
            <a:ext cx="914400" cy="76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3505320" y="3809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rbohydrate cell 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5943600" y="2286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luid Mosaic Mode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1119240"/>
            <a:ext cx="8991720" cy="22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59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Selectively permeable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llows some molecules in and keeps other molecules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80520" y="328680"/>
            <a:ext cx="81536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5720040" cy="3009960"/>
          </a:xfrm>
          <a:prstGeom prst="rect">
            <a:avLst/>
          </a:prstGeom>
          <a:ln w="0">
            <a:noFill/>
          </a:ln>
        </p:spPr>
      </p:pic>
      <p:sp>
        <p:nvSpPr>
          <p:cNvPr id="85" name="Line 6"/>
          <p:cNvSpPr/>
          <p:nvPr/>
        </p:nvSpPr>
        <p:spPr>
          <a:xfrm flipH="1">
            <a:off x="2798280" y="5419800"/>
            <a:ext cx="62388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397240" y="603252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441520" y="5151600"/>
            <a:ext cx="368280" cy="66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919920" cy="3182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581280" y="1371600"/>
            <a:ext cx="419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ut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14440" y="5181480"/>
            <a:ext cx="2640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In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(cytoplasm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30040" y="2819520"/>
            <a:ext cx="1648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574520" y="2590920"/>
            <a:ext cx="1297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288160" y="4343400"/>
            <a:ext cx="180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ans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327000" y="4572000"/>
            <a:ext cx="2398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ospholip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785280" y="2209680"/>
            <a:ext cx="202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rbohyd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8380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tructure of the Cell Membra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304920" y="10666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0" y="54864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Anim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Cellular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Passive Trans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n’t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Active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81"/>
          <p:cNvGrpSpPr/>
          <p:nvPr/>
        </p:nvGrpSpPr>
        <p:grpSpPr>
          <a:xfrm>
            <a:off x="4952880" y="4205160"/>
            <a:ext cx="3963960" cy="2654280"/>
            <a:chOff x="4952880" y="4205160"/>
            <a:chExt cx="3963960" cy="2654280"/>
          </a:xfrm>
        </p:grpSpPr>
        <p:grpSp>
          <p:nvGrpSpPr>
            <p:cNvPr id="105" name="Group 25"/>
            <p:cNvGrpSpPr/>
            <p:nvPr/>
          </p:nvGrpSpPr>
          <p:grpSpPr>
            <a:xfrm>
              <a:off x="4952880" y="4205160"/>
              <a:ext cx="3963960" cy="2654280"/>
              <a:chOff x="4952880" y="4205160"/>
              <a:chExt cx="3963960" cy="2654280"/>
            </a:xfrm>
          </p:grpSpPr>
          <p:sp>
            <p:nvSpPr>
              <p:cNvPr id="106" name="Oval 26"/>
              <p:cNvSpPr/>
              <p:nvPr/>
            </p:nvSpPr>
            <p:spPr>
              <a:xfrm>
                <a:off x="7467480" y="6262560"/>
                <a:ext cx="76320" cy="7632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" name="Group 27"/>
              <p:cNvGrpSpPr/>
              <p:nvPr/>
            </p:nvGrpSpPr>
            <p:grpSpPr>
              <a:xfrm>
                <a:off x="4952880" y="4205160"/>
                <a:ext cx="3963960" cy="2654280"/>
                <a:chOff x="4952880" y="4205160"/>
                <a:chExt cx="3963960" cy="2654280"/>
              </a:xfrm>
            </p:grpSpPr>
            <p:sp>
              <p:nvSpPr>
                <p:cNvPr id="108" name="Freeform 28"/>
                <p:cNvSpPr/>
                <p:nvPr/>
              </p:nvSpPr>
              <p:spPr>
                <a:xfrm>
                  <a:off x="4952880" y="5051520"/>
                  <a:ext cx="2979720" cy="1312920"/>
                </a:xfrm>
                <a:custGeom>
                  <a:avLst/>
                  <a:gdLst/>
                  <a:ahLst/>
                  <a:rect l="l" t="t" r="r" b="b"/>
                  <a:pathLst>
                    <a:path w="1877" h="827">
                      <a:moveTo>
                        <a:pt x="0" y="814"/>
                      </a:moveTo>
                      <a:cubicBezTo>
                        <a:pt x="29" y="805"/>
                        <a:pt x="62" y="798"/>
                        <a:pt x="88" y="781"/>
                      </a:cubicBezTo>
                      <a:cubicBezTo>
                        <a:pt x="138" y="750"/>
                        <a:pt x="94" y="768"/>
                        <a:pt x="135" y="753"/>
                      </a:cubicBezTo>
                      <a:cubicBezTo>
                        <a:pt x="157" y="732"/>
                        <a:pt x="160" y="711"/>
                        <a:pt x="183" y="692"/>
                      </a:cubicBezTo>
                      <a:cubicBezTo>
                        <a:pt x="219" y="662"/>
                        <a:pt x="262" y="647"/>
                        <a:pt x="291" y="604"/>
                      </a:cubicBezTo>
                      <a:cubicBezTo>
                        <a:pt x="321" y="560"/>
                        <a:pt x="350" y="520"/>
                        <a:pt x="386" y="482"/>
                      </a:cubicBezTo>
                      <a:cubicBezTo>
                        <a:pt x="398" y="447"/>
                        <a:pt x="390" y="466"/>
                        <a:pt x="420" y="421"/>
                      </a:cubicBezTo>
                      <a:cubicBezTo>
                        <a:pt x="425" y="414"/>
                        <a:pt x="434" y="401"/>
                        <a:pt x="434" y="401"/>
                      </a:cubicBezTo>
                      <a:cubicBezTo>
                        <a:pt x="449" y="353"/>
                        <a:pt x="442" y="374"/>
                        <a:pt x="454" y="340"/>
                      </a:cubicBezTo>
                      <a:cubicBezTo>
                        <a:pt x="459" y="325"/>
                        <a:pt x="472" y="313"/>
                        <a:pt x="481" y="299"/>
                      </a:cubicBezTo>
                      <a:cubicBezTo>
                        <a:pt x="486" y="292"/>
                        <a:pt x="495" y="279"/>
                        <a:pt x="495" y="279"/>
                      </a:cubicBezTo>
                      <a:cubicBezTo>
                        <a:pt x="509" y="235"/>
                        <a:pt x="537" y="165"/>
                        <a:pt x="583" y="150"/>
                      </a:cubicBezTo>
                      <a:cubicBezTo>
                        <a:pt x="605" y="117"/>
                        <a:pt x="647" y="95"/>
                        <a:pt x="678" y="69"/>
                      </a:cubicBezTo>
                      <a:cubicBezTo>
                        <a:pt x="694" y="56"/>
                        <a:pt x="699" y="43"/>
                        <a:pt x="718" y="35"/>
                      </a:cubicBezTo>
                      <a:cubicBezTo>
                        <a:pt x="731" y="29"/>
                        <a:pt x="745" y="26"/>
                        <a:pt x="759" y="22"/>
                      </a:cubicBezTo>
                      <a:cubicBezTo>
                        <a:pt x="772" y="18"/>
                        <a:pt x="799" y="8"/>
                        <a:pt x="799" y="8"/>
                      </a:cubicBezTo>
                      <a:cubicBezTo>
                        <a:pt x="954" y="16"/>
                        <a:pt x="914" y="0"/>
                        <a:pt x="1003" y="55"/>
                      </a:cubicBezTo>
                      <a:cubicBezTo>
                        <a:pt x="1042" y="111"/>
                        <a:pt x="1023" y="89"/>
                        <a:pt x="1057" y="123"/>
                      </a:cubicBezTo>
                      <a:cubicBezTo>
                        <a:pt x="1064" y="145"/>
                        <a:pt x="1091" y="184"/>
                        <a:pt x="1091" y="184"/>
                      </a:cubicBezTo>
                      <a:cubicBezTo>
                        <a:pt x="1100" y="212"/>
                        <a:pt x="1111" y="225"/>
                        <a:pt x="1132" y="245"/>
                      </a:cubicBezTo>
                      <a:cubicBezTo>
                        <a:pt x="1147" y="294"/>
                        <a:pt x="1137" y="274"/>
                        <a:pt x="1159" y="306"/>
                      </a:cubicBezTo>
                      <a:cubicBezTo>
                        <a:pt x="1168" y="335"/>
                        <a:pt x="1181" y="356"/>
                        <a:pt x="1199" y="381"/>
                      </a:cubicBezTo>
                      <a:cubicBezTo>
                        <a:pt x="1207" y="403"/>
                        <a:pt x="1214" y="440"/>
                        <a:pt x="1226" y="462"/>
                      </a:cubicBezTo>
                      <a:cubicBezTo>
                        <a:pt x="1234" y="476"/>
                        <a:pt x="1254" y="503"/>
                        <a:pt x="1254" y="503"/>
                      </a:cubicBezTo>
                      <a:cubicBezTo>
                        <a:pt x="1269" y="553"/>
                        <a:pt x="1291" y="596"/>
                        <a:pt x="1308" y="645"/>
                      </a:cubicBezTo>
                      <a:cubicBezTo>
                        <a:pt x="1316" y="669"/>
                        <a:pt x="1355" y="706"/>
                        <a:pt x="1355" y="706"/>
                      </a:cubicBezTo>
                      <a:cubicBezTo>
                        <a:pt x="1358" y="715"/>
                        <a:pt x="1366" y="742"/>
                        <a:pt x="1375" y="747"/>
                      </a:cubicBezTo>
                      <a:cubicBezTo>
                        <a:pt x="1458" y="795"/>
                        <a:pt x="1354" y="700"/>
                        <a:pt x="1450" y="767"/>
                      </a:cubicBezTo>
                      <a:cubicBezTo>
                        <a:pt x="1502" y="803"/>
                        <a:pt x="1557" y="803"/>
                        <a:pt x="1619" y="808"/>
                      </a:cubicBezTo>
                      <a:cubicBezTo>
                        <a:pt x="1727" y="827"/>
                        <a:pt x="1641" y="814"/>
                        <a:pt x="1877" y="814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Oval 29"/>
                <p:cNvSpPr/>
                <p:nvPr/>
              </p:nvSpPr>
              <p:spPr>
                <a:xfrm>
                  <a:off x="7240680" y="6186600"/>
                  <a:ext cx="75960" cy="75960"/>
                </a:xfrm>
                <a:prstGeom prst="ellipse">
                  <a:avLst/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Oval 30"/>
                <p:cNvSpPr/>
                <p:nvPr/>
              </p:nvSpPr>
              <p:spPr>
                <a:xfrm>
                  <a:off x="7392960" y="5576760"/>
                  <a:ext cx="15228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Line 31"/>
                <p:cNvSpPr/>
                <p:nvPr/>
              </p:nvSpPr>
              <p:spPr>
                <a:xfrm flipH="1" flipV="1">
                  <a:off x="7164000" y="580536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32"/>
                <p:cNvSpPr/>
                <p:nvPr/>
              </p:nvSpPr>
              <p:spPr>
                <a:xfrm>
                  <a:off x="7469280" y="58053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33"/>
                <p:cNvSpPr/>
                <p:nvPr/>
              </p:nvSpPr>
              <p:spPr>
                <a:xfrm flipH="1">
                  <a:off x="7316640" y="61102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34"/>
                <p:cNvSpPr/>
                <p:nvPr/>
              </p:nvSpPr>
              <p:spPr>
                <a:xfrm>
                  <a:off x="7469280" y="611028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35"/>
                <p:cNvSpPr/>
                <p:nvPr/>
              </p:nvSpPr>
              <p:spPr>
                <a:xfrm flipV="1">
                  <a:off x="7469280" y="58053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36"/>
                <p:cNvSpPr/>
                <p:nvPr/>
              </p:nvSpPr>
              <p:spPr>
                <a:xfrm flipH="1" flipV="1">
                  <a:off x="6630840" y="4966920"/>
                  <a:ext cx="533520" cy="106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37"/>
                <p:cNvSpPr/>
                <p:nvPr/>
              </p:nvSpPr>
              <p:spPr>
                <a:xfrm flipH="1">
                  <a:off x="6325920" y="496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38"/>
                <p:cNvSpPr/>
                <p:nvPr/>
              </p:nvSpPr>
              <p:spPr>
                <a:xfrm flipH="1" flipV="1">
                  <a:off x="6554520" y="5653080"/>
                  <a:ext cx="533160" cy="838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39"/>
                <p:cNvSpPr/>
                <p:nvPr/>
              </p:nvSpPr>
              <p:spPr>
                <a:xfrm>
                  <a:off x="5945040" y="5348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high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 Box 40"/>
                <p:cNvSpPr/>
                <p:nvPr/>
              </p:nvSpPr>
              <p:spPr>
                <a:xfrm>
                  <a:off x="7240680" y="6491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low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AutoShape 41"/>
                <p:cNvSpPr/>
                <p:nvPr/>
              </p:nvSpPr>
              <p:spPr>
                <a:xfrm>
                  <a:off x="7392960" y="4205160"/>
                  <a:ext cx="1523880" cy="1295640"/>
                </a:xfrm>
                <a:prstGeom prst="wedgeEllipseCallout">
                  <a:avLst>
                    <a:gd name="adj1" fmla="val -34375"/>
                    <a:gd name="adj2" fmla="val 65319"/>
                  </a:avLst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is is gonna be hard work!!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" name="Oval 78"/>
            <p:cNvSpPr/>
            <p:nvPr/>
          </p:nvSpPr>
          <p:spPr>
            <a:xfrm>
              <a:off x="75438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73152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82"/>
          <p:cNvGrpSpPr/>
          <p:nvPr/>
        </p:nvGrpSpPr>
        <p:grpSpPr>
          <a:xfrm>
            <a:off x="4876920" y="914400"/>
            <a:ext cx="3276000" cy="2806560"/>
            <a:chOff x="4876920" y="914400"/>
            <a:chExt cx="3276000" cy="2806560"/>
          </a:xfrm>
        </p:grpSpPr>
        <p:grpSp>
          <p:nvGrpSpPr>
            <p:cNvPr id="125" name="Group 5"/>
            <p:cNvGrpSpPr/>
            <p:nvPr/>
          </p:nvGrpSpPr>
          <p:grpSpPr>
            <a:xfrm>
              <a:off x="4876920" y="914400"/>
              <a:ext cx="3276000" cy="2806560"/>
              <a:chOff x="4876920" y="914400"/>
              <a:chExt cx="3276000" cy="2806560"/>
            </a:xfrm>
          </p:grpSpPr>
          <p:sp>
            <p:nvSpPr>
              <p:cNvPr id="126" name="Line 6"/>
              <p:cNvSpPr/>
              <p:nvPr/>
            </p:nvSpPr>
            <p:spPr>
              <a:xfrm>
                <a:off x="6629400" y="1981080"/>
                <a:ext cx="533520" cy="99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" name="Group 7"/>
              <p:cNvGrpSpPr/>
              <p:nvPr/>
            </p:nvGrpSpPr>
            <p:grpSpPr>
              <a:xfrm>
                <a:off x="4876920" y="914400"/>
                <a:ext cx="3276000" cy="2806560"/>
                <a:chOff x="4876920" y="914400"/>
                <a:chExt cx="3276000" cy="2806560"/>
              </a:xfrm>
            </p:grpSpPr>
            <p:sp>
              <p:nvSpPr>
                <p:cNvPr id="128" name="Line 8"/>
                <p:cNvSpPr/>
                <p:nvPr/>
              </p:nvSpPr>
              <p:spPr>
                <a:xfrm>
                  <a:off x="6248160" y="182880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9"/>
                <p:cNvGrpSpPr/>
                <p:nvPr/>
              </p:nvGrpSpPr>
              <p:grpSpPr>
                <a:xfrm>
                  <a:off x="4876920" y="914400"/>
                  <a:ext cx="3276000" cy="2806560"/>
                  <a:chOff x="4876920" y="914400"/>
                  <a:chExt cx="3276000" cy="2806560"/>
                </a:xfrm>
              </p:grpSpPr>
              <p:sp>
                <p:nvSpPr>
                  <p:cNvPr id="130" name="Line 10"/>
                  <p:cNvSpPr/>
                  <p:nvPr/>
                </p:nvSpPr>
                <p:spPr>
                  <a:xfrm flipH="1">
                    <a:off x="6095880" y="182880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Oval 11"/>
                  <p:cNvSpPr/>
                  <p:nvPr/>
                </p:nvSpPr>
                <p:spPr>
                  <a:xfrm>
                    <a:off x="624816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Oval 12"/>
                  <p:cNvSpPr/>
                  <p:nvPr/>
                </p:nvSpPr>
                <p:spPr>
                  <a:xfrm>
                    <a:off x="632448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3" name="Group 13"/>
                  <p:cNvGrpSpPr/>
                  <p:nvPr/>
                </p:nvGrpSpPr>
                <p:grpSpPr>
                  <a:xfrm>
                    <a:off x="4876920" y="914400"/>
                    <a:ext cx="3276000" cy="2806560"/>
                    <a:chOff x="4876920" y="914400"/>
                    <a:chExt cx="3276000" cy="2806560"/>
                  </a:xfrm>
                </p:grpSpPr>
                <p:sp>
                  <p:nvSpPr>
                    <p:cNvPr id="134" name="Freeform 14"/>
                    <p:cNvSpPr/>
                    <p:nvPr/>
                  </p:nvSpPr>
                  <p:spPr>
                    <a:xfrm>
                      <a:off x="4876920" y="2057400"/>
                      <a:ext cx="2979360" cy="13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7" h="827">
                          <a:moveTo>
                            <a:pt x="0" y="814"/>
                          </a:moveTo>
                          <a:cubicBezTo>
                            <a:pt x="29" y="805"/>
                            <a:pt x="62" y="798"/>
                            <a:pt x="88" y="781"/>
                          </a:cubicBezTo>
                          <a:cubicBezTo>
                            <a:pt x="138" y="750"/>
                            <a:pt x="94" y="768"/>
                            <a:pt x="135" y="753"/>
                          </a:cubicBezTo>
                          <a:cubicBezTo>
                            <a:pt x="157" y="732"/>
                            <a:pt x="160" y="711"/>
                            <a:pt x="183" y="692"/>
                          </a:cubicBezTo>
                          <a:cubicBezTo>
                            <a:pt x="219" y="662"/>
                            <a:pt x="262" y="647"/>
                            <a:pt x="291" y="604"/>
                          </a:cubicBezTo>
                          <a:cubicBezTo>
                            <a:pt x="321" y="560"/>
                            <a:pt x="350" y="520"/>
                            <a:pt x="386" y="482"/>
                          </a:cubicBezTo>
                          <a:cubicBezTo>
                            <a:pt x="398" y="447"/>
                            <a:pt x="390" y="466"/>
                            <a:pt x="420" y="421"/>
                          </a:cubicBezTo>
                          <a:cubicBezTo>
                            <a:pt x="425" y="414"/>
                            <a:pt x="434" y="401"/>
                            <a:pt x="434" y="401"/>
                          </a:cubicBezTo>
                          <a:cubicBezTo>
                            <a:pt x="449" y="353"/>
                            <a:pt x="442" y="374"/>
                            <a:pt x="454" y="340"/>
                          </a:cubicBezTo>
                          <a:cubicBezTo>
                            <a:pt x="459" y="325"/>
                            <a:pt x="472" y="313"/>
                            <a:pt x="481" y="299"/>
                          </a:cubicBezTo>
                          <a:cubicBezTo>
                            <a:pt x="486" y="292"/>
                            <a:pt x="495" y="279"/>
                            <a:pt x="495" y="279"/>
                          </a:cubicBezTo>
                          <a:cubicBezTo>
                            <a:pt x="509" y="235"/>
                            <a:pt x="537" y="165"/>
                            <a:pt x="583" y="150"/>
                          </a:cubicBezTo>
                          <a:cubicBezTo>
                            <a:pt x="605" y="117"/>
                            <a:pt x="647" y="95"/>
                            <a:pt x="678" y="69"/>
                          </a:cubicBezTo>
                          <a:cubicBezTo>
                            <a:pt x="694" y="56"/>
                            <a:pt x="699" y="43"/>
                            <a:pt x="718" y="35"/>
                          </a:cubicBezTo>
                          <a:cubicBezTo>
                            <a:pt x="731" y="29"/>
                            <a:pt x="745" y="26"/>
                            <a:pt x="759" y="22"/>
                          </a:cubicBezTo>
                          <a:cubicBezTo>
                            <a:pt x="772" y="18"/>
                            <a:pt x="799" y="8"/>
                            <a:pt x="799" y="8"/>
                          </a:cubicBezTo>
                          <a:cubicBezTo>
                            <a:pt x="954" y="16"/>
                            <a:pt x="914" y="0"/>
                            <a:pt x="1003" y="55"/>
                          </a:cubicBezTo>
                          <a:cubicBezTo>
                            <a:pt x="1042" y="111"/>
                            <a:pt x="1023" y="89"/>
                            <a:pt x="1057" y="123"/>
                          </a:cubicBezTo>
                          <a:cubicBezTo>
                            <a:pt x="1064" y="145"/>
                            <a:pt x="1091" y="184"/>
                            <a:pt x="1091" y="184"/>
                          </a:cubicBezTo>
                          <a:cubicBezTo>
                            <a:pt x="1100" y="212"/>
                            <a:pt x="1111" y="225"/>
                            <a:pt x="1132" y="245"/>
                          </a:cubicBezTo>
                          <a:cubicBezTo>
                            <a:pt x="1147" y="294"/>
                            <a:pt x="1137" y="274"/>
                            <a:pt x="1159" y="306"/>
                          </a:cubicBezTo>
                          <a:cubicBezTo>
                            <a:pt x="1168" y="335"/>
                            <a:pt x="1181" y="356"/>
                            <a:pt x="1199" y="381"/>
                          </a:cubicBezTo>
                          <a:cubicBezTo>
                            <a:pt x="1207" y="403"/>
                            <a:pt x="1214" y="440"/>
                            <a:pt x="1226" y="462"/>
                          </a:cubicBezTo>
                          <a:cubicBezTo>
                            <a:pt x="1234" y="476"/>
                            <a:pt x="1254" y="503"/>
                            <a:pt x="1254" y="503"/>
                          </a:cubicBezTo>
                          <a:cubicBezTo>
                            <a:pt x="1269" y="553"/>
                            <a:pt x="1291" y="596"/>
                            <a:pt x="1308" y="645"/>
                          </a:cubicBezTo>
                          <a:cubicBezTo>
                            <a:pt x="1316" y="669"/>
                            <a:pt x="1355" y="706"/>
                            <a:pt x="1355" y="706"/>
                          </a:cubicBezTo>
                          <a:cubicBezTo>
                            <a:pt x="1358" y="715"/>
                            <a:pt x="1366" y="742"/>
                            <a:pt x="1375" y="747"/>
                          </a:cubicBezTo>
                          <a:cubicBezTo>
                            <a:pt x="1458" y="795"/>
                            <a:pt x="1354" y="700"/>
                            <a:pt x="1450" y="767"/>
                          </a:cubicBezTo>
                          <a:cubicBezTo>
                            <a:pt x="1502" y="803"/>
                            <a:pt x="1557" y="803"/>
                            <a:pt x="1619" y="808"/>
                          </a:cubicBezTo>
                          <a:cubicBezTo>
                            <a:pt x="1727" y="827"/>
                            <a:pt x="1641" y="814"/>
                            <a:pt x="1877" y="814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Oval 15"/>
                    <p:cNvSpPr/>
                    <p:nvPr/>
                  </p:nvSpPr>
                  <p:spPr>
                    <a:xfrm>
                      <a:off x="6172200" y="1295280"/>
                      <a:ext cx="151920" cy="22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Line 16"/>
                    <p:cNvSpPr/>
                    <p:nvPr/>
                  </p:nvSpPr>
                  <p:spPr>
                    <a:xfrm>
                      <a:off x="6248160" y="1523880"/>
                      <a:ext cx="0" cy="304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Oval 17"/>
                    <p:cNvSpPr/>
                    <p:nvPr/>
                  </p:nvSpPr>
                  <p:spPr>
                    <a:xfrm>
                      <a:off x="6095880" y="1981080"/>
                      <a:ext cx="75960" cy="76320"/>
                    </a:xfrm>
                    <a:prstGeom prst="ellipse">
                      <a:avLst/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18"/>
                    <p:cNvSpPr/>
                    <p:nvPr/>
                  </p:nvSpPr>
                  <p:spPr>
                    <a:xfrm flipH="1" flipV="1">
                      <a:off x="5943240" y="1600200"/>
                      <a:ext cx="30420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19"/>
                    <p:cNvSpPr/>
                    <p:nvPr/>
                  </p:nvSpPr>
                  <p:spPr>
                    <a:xfrm flipV="1">
                      <a:off x="6248160" y="1600200"/>
                      <a:ext cx="22824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Line 20"/>
                    <p:cNvSpPr/>
                    <p:nvPr/>
                  </p:nvSpPr>
                  <p:spPr>
                    <a:xfrm>
                      <a:off x="7238880" y="3048120"/>
                      <a:ext cx="7617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21"/>
                    <p:cNvSpPr/>
                    <p:nvPr/>
                  </p:nvSpPr>
                  <p:spPr>
                    <a:xfrm>
                      <a:off x="5867280" y="2438280"/>
                      <a:ext cx="6854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Text Box 22"/>
                    <p:cNvSpPr/>
                    <p:nvPr/>
                  </p:nvSpPr>
                  <p:spPr>
                    <a:xfrm>
                      <a:off x="7238880" y="3352680"/>
                      <a:ext cx="914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AutoShape 23"/>
                    <p:cNvSpPr/>
                    <p:nvPr/>
                  </p:nvSpPr>
                  <p:spPr>
                    <a:xfrm>
                      <a:off x="6476760" y="914400"/>
                      <a:ext cx="1523880" cy="533520"/>
                    </a:xfrm>
                    <a:prstGeom prst="wedgeEllipseCallout">
                      <a:avLst>
                        <a:gd name="adj1" fmla="val -43750"/>
                        <a:gd name="adj2" fmla="val 70000"/>
                      </a:avLst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 fontScale="89000"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ee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24"/>
                    <p:cNvSpPr/>
                    <p:nvPr/>
                  </p:nvSpPr>
                  <p:spPr>
                    <a:xfrm>
                      <a:off x="6324480" y="2819520"/>
                      <a:ext cx="837720" cy="761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45" name="Oval 80"/>
            <p:cNvSpPr/>
            <p:nvPr/>
          </p:nvSpPr>
          <p:spPr>
            <a:xfrm>
              <a:off x="6019920" y="198108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Text Box 83"/>
          <p:cNvSpPr/>
          <p:nvPr/>
        </p:nvSpPr>
        <p:spPr>
          <a:xfrm>
            <a:off x="6705720" y="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Animatio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ctive Transport &amp; Passive 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84"/>
          <p:cNvSpPr/>
          <p:nvPr/>
        </p:nvSpPr>
        <p:spPr>
          <a:xfrm>
            <a:off x="0" y="838080"/>
            <a:ext cx="6324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no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mo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spread out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l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ow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High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w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hree typ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533520" y="9144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3 Types of Pass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acilitative 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with the help of transport prote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1T12:57:4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